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EA7-361C-4DA4-AFA0-FA6B1BA5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345-6C41-4077-B6F5-84D2712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8F3-68A1-4BF3-BF0D-11C684D8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592-6B75-4D80-8B8C-2BEF52D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91F-E942-433C-A4BD-AF3012EA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E09B-E9C7-492D-B1F4-7B50CB5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E1FD-6459-4295-8D28-B0279BE3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AC1A-895D-4F3E-9944-6D97D9D8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A6D-CB60-416F-BBA1-E3E0FA2D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1E41-97C2-47D5-A4C3-D39441C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7705-1CAF-431B-8901-144948E3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D84-BBB8-4A4D-A1C7-447FA910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31C-53C1-42B8-8783-91D66FB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42BC-51EE-4F37-8E42-BECF3C5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6D24-A7C9-43F8-BD9C-759ECA5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FBFC-04C5-4B72-A8E6-AB145D5C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9134-28D0-4FD4-AAA6-DB1B64FD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128-02BC-4C26-9E1B-15440A82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440-4CC1-4833-A919-290E9B0A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27D-04D2-4C54-8CB4-5E5694D9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68F-5C67-43B1-9C42-8F09FF5D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69D-51F3-48AF-A7CC-6EC5CB2C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777-CA97-490A-98B4-0FB54CA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7E3-8C5A-4836-B31F-B7D9AD0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E791-00E5-4F34-8A91-974C8C5A00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2069-B0FA-403A-9EC8-540D7ED39B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IR, WE WOULD SEE JESU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IFE OF CHRIST, PART 2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0, LESSON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KE10:1 - 12: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05-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6220-0BD6-4C87-A12B-0DE98D1057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parables, Jesus compares the kingdom of God to a mustard seed and then to ye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le on His way to Jerusalem, Jesus teaches in the the villages and cities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one asked Jesus “Lord are there few who are saved?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answered “strive to enter the narrow door for many will seek to enter and not be abl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D7D-0372-4E48-BF2B-1C7DCC5FA3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eaches that once the door of opportunity (for salvation) is closed, it will be too late, there will be weeping and gnashing of tee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will come from all over and sit down in the kingdom of God.  Abraham, Isaac and Jacob will be t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is not fooled by the Pharisees’ warning to leave the area because Herod wanted to kill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9DC-1B74-4222-B070-3A48812ED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, fearlessly, states that He will complete His work there and then be on His w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laments; “O Jerusalem, Jerusalem, the one who kills the prophets and stones those who are sent to her!  How often I wanted to gather your children together, as a hen gathers her brood under her wings, but you were not willing.”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k 13:3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E44-D195-4B31-B8A1-5838D3D834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EAST OF DEDICA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JOHN 10:22-3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ime of this feast was late Decemb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as walking in Solomon’s porch when the Jews asked Him, “How long do You keep us in doubt? If You are the Christ tell us plainly.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answer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told you but you don’t 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not of My sheep; My sheep hear my voice, I know them, they follow 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one can snatch them out of  My Father’s h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nd My Father are 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D4D-DDBA-498F-B641-13799BC085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EAST OF DEDICA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JOHN 10:22-3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Jews take up stones to stone Jes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ants to know which of the many good works He has done that would cause them to stone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ir answer; “Not for a good work, but for blasphemy and making Yourself God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replies, “if I do not do the works of My Father, do not believe Me and if I do, believe the works…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eek again to seize Him, but He esc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E6A-E8B0-42EF-AE7F-9480F39DCC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TITUDES ABOUT MATERIAL THING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2:22-3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worry abou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life, what you will 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r body, what you will w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fe is more than food, the body more than clot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doubt, God knows your 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ld runs after these things, but seek the kingdom of God and these things will be added to y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9B8-07BA-49B5-B7A6-E474DD74C2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TITUDE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contd.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2:32-37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be afraid, little flock, the Father will give you the king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ll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ave and give to the p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y prepared, gird your waist and keep your lamp bu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essed are those servants whom the Lord finds watching for Hi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004-876E-4A64-874F-442A9FE06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THFUL SERVANT &amp; EVIL SERVANT</a:t>
            </a:r>
            <a:br>
              <a:rPr sz="32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 A PARABLE)</a:t>
            </a:r>
            <a:br>
              <a:rPr sz="28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2:40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aster will make his faithful and wise servant ruler over his househo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essed is that servant whom the master finds doing his du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if that servant becomes lax, begins to beat the other servants even gets drunk, woe to hi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313-A08F-4501-B0E2-B933E8381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HRIST BRINGS DIVIS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UKE 12:49-5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 came to send fire upon the 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d to undergo a baptism of suff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ould cause division not pe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28B-4FC8-4C2C-8019-28E3FAFD9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HRIST BRINGS DIVIS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UKE 12:49-5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one house: Three against two, father against son, mother against daughter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ultitudes could discern the weather but not the signs of the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peace with your advers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CD6-B07A-4A9B-AB07-984C6112D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PENT OR PERIS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sus was told about some Galileans slain by Pi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e they worse sinners than oth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ower of Siloam fell on eighteen and killed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e they worse sinners than oth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208-167F-4EB6-B0D2-E543E4E386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PENT OR PERIS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ess people repent they will all likewise perish regardless of how they s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ig tree had not produced fruit for three years and the vinedresser was told to “cut it dow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vinedresser responded “let me dig around it and fertilize it. If it bears fruit , fine.  If not, cut it down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?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A52-8F6E-4B10-AB31-51092F299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oman with a spirit of infirmity for eighteen years is healed on the Sabb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uler of the synagogue becomes ups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thought she should come to be healed on one of the other d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lling them hypocrites, Jesus gives an example of leading an ox or donkey to water on the Sabba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’ enemies are put to shame; the multitude rej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450-B452-4195-8ED4-90052CB7F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1:30:16Z</dcterms:created>
  <dc:creator>billy lauderdale</dc:creator>
  <dc:description/>
  <dc:language>en-US</dc:language>
  <cp:lastModifiedBy>Frank D Vines</cp:lastModifiedBy>
  <dcterms:modified xsi:type="dcterms:W3CDTF">2007-02-24T05:17:17Z</dcterms:modified>
  <cp:revision>44</cp:revision>
  <dc:subject/>
  <dc:title>SIR, WE WOULD SEE JESUS LIFE OF CHRIST, PART 2</dc:title>
</cp:coreProperties>
</file>